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venue à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Qui  veux  gagner les  Mil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on e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s chev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s pi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s 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se lave _______ avec le shampoo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249120" y="589428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4652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u sa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z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es devo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fille fait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4583160" y="478620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50"/>
                            </p:stCondLst>
                            <p:childTnLst>
                              <p:par>
                                <p:cTn id="29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5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5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a vaiss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 routine quotidi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oute la journé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 mère fait ___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246240" y="58816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ll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év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éte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éba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zappe pour _____ les publici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282600" y="58942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 dépê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e dépê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e dépê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épê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 suis en retard. Il faut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284040" y="478152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301680" y="5880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586400" y="58546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 cou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 couché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’est cou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’est couc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e soir, ma mère ______ tô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4632480" y="58816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 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f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n frère _____ la table, et j’ai débarassé la t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4638600" y="48387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06400" y="43164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50"/>
                            </p:stCondLst>
                            <p:childTnLst>
                              <p:par>
                                <p:cTn id="51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50"/>
                            </p:stCondLst>
                            <p:childTnLst>
                              <p:par>
                                <p:cTn id="5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5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vons la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35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nous avons lav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5005440" y="5029200"/>
            <a:ext cx="35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nous sommes la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38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ous sommes lav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us _____ les mai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4681440" y="478152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7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5990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’hab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’ha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’ha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’hab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 vais ______ après le petit-déjeu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249120" y="590724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9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192240" y="4791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e 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e lè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lev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’as le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______ à quelle he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258840" y="58942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75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01600" y="48099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594320" y="58705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lav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on émission favo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l’é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la salle de sé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563840" y="39528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fait la vaisselle dans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4675320" y="4762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5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499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’union africa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Séné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Maghre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l’Afrique du N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ment appelle-t-on le Mali, l’Algérie, et la Tunis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4664160" y="4772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0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6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1"/>
          <p:cNvSpPr/>
          <p:nvPr/>
        </p:nvSpPr>
        <p:spPr>
          <a:xfrm>
            <a:off x="1941480" y="301320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ttp://jc-schools.net/tutorials/ppt-gam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e lè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me lève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ais se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se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 matin, je ______ tô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78"/>
          <p:cNvSpPr/>
          <p:nvPr/>
        </p:nvSpPr>
        <p:spPr>
          <a:xfrm>
            <a:off x="4390920" y="15606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ro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e bro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e 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tienne _____ la fig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4673520" y="5881680"/>
            <a:ext cx="427536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 g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sa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pe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’é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 me regarde dans 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258840" y="4764240"/>
            <a:ext cx="4267080" cy="914400"/>
          </a:xfrm>
          <a:prstGeom prst="flowChartPreparation">
            <a:avLst/>
          </a:prstGeom>
          <a:solidFill>
            <a:srgbClr val="00ff00">
              <a:alpha val="51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3:46:26Z</dcterms:created>
  <dc:creator>Mark E. Damon</dc:creator>
  <dc:description/>
  <dc:language>en-US</dc:language>
  <cp:lastModifiedBy>John Chapman</cp:lastModifiedBy>
  <dcterms:modified xsi:type="dcterms:W3CDTF">2012-04-02T10:23:26Z</dcterms:modified>
  <cp:revision>27</cp:revision>
  <dc:subject/>
  <dc:title>No Slide Title</dc:title>
</cp:coreProperties>
</file>